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6D07-ABA9-4E21-85BC-7FE7EF853F0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DC19-EC4E-4604-BEA7-5849D48E7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D07A-ACC2-40A4-A10B-5E94248D7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59A4-B4D7-4162-8F80-8E19398C010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8576-7E71-4301-AD48-86B650C4D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CEAA-A9E4-4086-8904-9FB2288E20D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9733-EAE3-4B23-AC61-6BE4424CF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B39B-5E74-4044-8140-760B453977E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7C66-742A-42EF-A569-3E855B7EB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0C67-85D4-484B-B0C1-31488BB2D81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1D8B-B7FD-4A1C-8BCB-D9F2F48C3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4852-513D-4DD2-BE5A-8C1FF67F2FF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F0B4-871B-4E40-8A0B-675B9A12E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6F22-6245-4F32-971D-8FA1852F8D2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E22D-0B65-4ACC-8AB7-F9D466A5D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3D1D-0D14-4490-B094-D3131E13030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5C70-0DD9-4B77-8F29-E76497937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ADDB-957F-4ACA-8D7F-D07EC87D088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D1E5-4364-4DFE-98DA-6BD6C7152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2CA8-B78D-45C7-A118-08A3B51836A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5D7B-276E-45C9-8282-FF7119A61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1BBB-5B5C-443C-98F8-FBB7296419B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985A-9CA0-4441-804B-63C49F767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DBC4-B879-437E-AAA5-FA4C9D446BB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6A6A-B2C9-4E54-B4CA-D3837A9F6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EDF6-9317-4B69-A32D-EC280E47363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EF35-5F35-43B1-99E9-0A3AEDD62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9736-F602-424F-8CB0-A73278C0505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CFDE67DA-49AF-4A3E-A17C-805DC4B659BC}"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1F7306B-055A-46E7-90E7-19182A6C4BC6}" type="datetime1">
              <a:rPr lang="en-US"/>
              <a:t>07/3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1629BD0-AB77-4D50-9BDF-E50D6B23802E}"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50871C9-3208-408F-8B93-25EFA946AAA9}"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A2A5A35-2A00-4195-A6BA-55CAB828B1CC}"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AE946BE0-500E-4FDE-ADBB-2AE33AB3BE02}" type="datetime1">
              <a:rPr lang="en-US"/>
              <a:t>07/30/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88FAFEBB-9E9A-4F69-A755-E543A92273D7}" type="datetime1">
              <a:rPr lang="en-US"/>
              <a:t>07/30/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CA0D2F2B-4353-46FC-BBBF-6280C8CF124D}" type="datetime1">
              <a:rPr lang="en-US"/>
              <a:t>07/3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0143DDB1-1626-4F53-A5E6-470D65D5ED34}" type="datetime1">
              <a:rPr lang="en-US"/>
              <a:t>07/30/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A075F34D-E752-4F04-B55F-EE26C13B557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134C958C-7860-46C1-B5D7-6D3FE1BD3926}" type="datetime1">
              <a:rPr lang="en-US"/>
              <a:t>07/30/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E3CB7787-C05B-4337-A55F-ACC84A5A88F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E0D302D0-060C-4DB2-8F91-E5D1A5FA4739}" type="datetime1">
              <a:rPr lang="en-US"/>
              <a:t>07/30/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E4BF5221-D0E4-4975-A97B-F93049EDC38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367B61F-DD16-4679-A7C6-B604D74754EC}" type="datetime1">
              <a:rPr lang="en-US"/>
              <a:t>07/30/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3F8FAD6A-961F-47B1-AA26-9198A7ECE551}" type="datetime1">
              <a:rPr lang="en-US"/>
              <a:t>07/30/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19B0D9E-149E-4EF7-8350-C00643EE8C72}" type="datetime1">
              <a:rPr lang="en-US"/>
              <a:t>07/30/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AF678889-B461-465A-8C77-FAB5EE063C95}" type="datetime1">
              <a:rPr lang="en-US"/>
              <a:t>07/30/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C43CC7C9-138E-45EF-AA0B-E87BC547C6E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8660CCE8-545F-4247-9F9E-E56F07B19352}" type="datetime1">
              <a:rPr lang="en-US"/>
              <a:t>07/3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D448188-3185-490F-9095-766A1ACA08D2}" type="datetime1">
              <a:rPr lang="en-US"/>
              <a:t>07/3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B2AD32F9-6820-4C27-87B8-19A2C79013F0}"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ADA096DE-1F93-4D31-9E27-89FB8072C93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96B5B46C-6FD0-4277-94CB-77989313C754}"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A935CE87-7227-4255-8019-D516066F2A1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