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3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14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15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218B-4464-4F4F-96FF-2AB236025C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8E1B-F056-416E-B29C-310B7161B5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A65B-FBFB-4D5F-853A-1513682768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91EB-F42A-4556-9D70-F68AE252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2951-5CD8-4D73-8A9A-F3B1ADA5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8939-1380-4196-A860-40202CCE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E89A-6C57-4B0E-B614-5A0A225E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C0B4-8762-404E-9BDE-6C204570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0E53-2071-47B4-AF31-EF02AEA6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0710-BED8-47B4-B0AE-2CE2740C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8631-FEDD-481B-85C0-F250010B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BE6D-8A63-46FA-BAE2-27D8BC54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AC5C-F20C-4360-BEDF-262F5630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FBE2-6CE4-4530-BF8C-5A25EA49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007A-0A25-4BF4-8722-E936486F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ABC2-544A-486B-B71A-F04BFF88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6771-BE17-4808-AAC7-CB2EC6AC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9D16-0AF4-41ED-9427-4CAA3E97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41EE-FC5E-454B-AC29-5888046B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0A89-5C48-4BE9-910F-E505DD10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FD560-E954-47FD-A035-3212D802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513D7-14BB-4DD4-943E-22E182C7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4F251-A798-4F5D-8BA5-F50D774B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0D97B-020F-44DC-A631-BA6CEBED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8CE88-E6BF-442C-80E9-63A15502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F4F6-F156-4FFF-9148-37DAE95F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FD751-EFA6-408A-BE42-14C1855D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CB9CA-1176-4F87-9991-20084112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88810-854E-4B61-BEB9-675A2C11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83274-BB6F-4C88-9E45-4C679D5E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6313D-70CA-4B46-AE66-916DEA07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BCE65-BD4B-4154-951B-587B566F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1CC3A-99C5-45CD-8C03-C8AEB38F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75624-B4C3-41ED-B87D-EF496525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183BE-7822-4F05-BE9E-88439193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F1E75-A457-43AA-8300-CC18E8E7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48BA-5571-484F-99E8-EF75FB1E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8D630-984F-4C07-919F-3EFAF51C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B28F0-B6D2-46F8-AD7C-7895A93B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A7449-4D53-4E84-A076-42B0CB33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47C4D-440A-41C6-8F15-1D4F7527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8033B-F22C-430A-BAC7-B83E22B1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00756-EFF1-4D7B-831E-4C007344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55CDE-DA27-44BB-84D4-ADB6DD20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D0564-8C55-48A8-AB32-8927E278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E9900-D685-49C7-AA1D-456C4700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5CC8-3DFB-40DB-B823-FA776526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1FB9-9B10-4932-9DC1-04CEFD1A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048D-AC56-43B3-878F-F44CB920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5227-3AAB-403E-B142-6E620F85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7C0B-8F8F-41AD-82CE-DB1AE4E7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7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8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4343040" y="380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8559360" y="355320"/>
            <a:ext cx="381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788D-838E-4FCC-AEEF-B069C320CD34}" type="slidenum"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276360" y="-3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185400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109E-4E57-4E72-AE1D-154126996584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136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256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7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8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9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CE3A-CBC7-478C-8430-C1856FBB1CAB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377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381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10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11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12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116F-9418-45DE-8421-43A7BF412B2C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9"/>
          <p:cNvSpPr/>
          <p:nvPr/>
        </p:nvSpPr>
        <p:spPr>
          <a:xfrm>
            <a:off x="1827360" y="0"/>
            <a:ext cx="1250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BBD6-A70C-41F8-9B88-AA90042789A7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42920" y="1679400"/>
            <a:ext cx="3994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stream pipelines integrity managemen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NK-BP approa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787640" y="3573360"/>
            <a:ext cx="350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conference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October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633240" y="3603600"/>
            <a:ext cx="350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лад для конференции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тября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633240" y="1144440"/>
            <a:ext cx="3722760" cy="22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правление целостностью промысловых  трубопроводов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ход ТНК-В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12EC41D-55FA-414F-807E-9AC2688B3B71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1280" y="691560"/>
            <a:ext cx="647208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стория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 His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10920" y="4960800"/>
            <a:ext cx="3600360" cy="18972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НК-ВР была организована в 2003 год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наследство объёдинённая компания получила около 28000 км трубопровод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начительная часть трубопроводов имела срок службы более 15 лет и не самое лучшее техническое состоя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достаточное покрытие трубопроводного парка средствам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ребовался значительный объём ресурсов для обеспечения непрерывной и безопасной эксплуатации трубопровод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тнк-вр карта рус"/>
          <p:cNvPicPr/>
          <p:nvPr/>
        </p:nvPicPr>
        <p:blipFill>
          <a:blip r:embed="rId1"/>
          <a:stretch/>
        </p:blipFill>
        <p:spPr>
          <a:xfrm>
            <a:off x="971640" y="1413000"/>
            <a:ext cx="6534000" cy="34718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6"/>
          <p:cNvSpPr/>
          <p:nvPr/>
        </p:nvSpPr>
        <p:spPr>
          <a:xfrm>
            <a:off x="4500720" y="4960800"/>
            <a:ext cx="367344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NK-BP was established i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int company had received about 28000 km of pipe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part of pipelines had more than 15 years of operation and not best ever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protection was insuffic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resources were required to ensure safe and continuous op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3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C3F90DA-B23E-46AF-ABDB-9C7599FFDAA3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30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22A8B9D7-7BAB-4B0E-8255-1D847BFE3F72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05:47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THK-BP presentation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DBC971C-45F5-418A-A888-C607F35C119E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619560"/>
            <a:ext cx="710712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787640" y="1509840"/>
            <a:ext cx="4136760" cy="53481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2004 integrity management strategy was developed with a goal to reduce pipeline lea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focus area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peline leak risk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leaking pipe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loting and implementation of advanced technologies to increase technical condition of pipelines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hibi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insp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osion prot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repair technologie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k assessment tool was developed to identify critical pipelines that require additional interv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oard of Directors set a goal to reduce leaks by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ior management obtain regular pipeline integrity reporting with leak cause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sidiaries were provided with required re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363600" y="1509840"/>
            <a:ext cx="435276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2004 году была разработана стратегия управления целостностью. Основная цель которой - снижение аварийности всех трубопровод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 направления стратегии управления целостность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мена аварийных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пробация и внедрение новых технологий для повышения уровня технического состояния существующих трубопровод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ингибирование, новые методы диагностики, электрохимическая защита, современные технологии ремон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л разработан инструмент приоритезации трубопроводов, с помощью которого выделяются наиболее важные трубопроводы, определяются приоритеты на реконструкцию, причем более высокий приоритет получают трубопроводы, пролегающие через экологически чувствительные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т Директоров ТНК-ВР установил обязательство к 2009 году снизить на 50% исторически сложившуюся в компаниях-предшественницах аварийность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шее руководство компании получает регулярную отчётность об аварийности трубопроводов с анализом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редприятиях ТНК-ВР было профинансировано применение новых технологий, включая ингибирование коррозии и диагнос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Date Placeholder 4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14D9891-F3F5-4FF5-BA1B-28F2057FC6F0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30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C58A6500-EA83-464D-95BE-7CF21A22889E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05:47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5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Название презентации ТНК-В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6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F6F5911-2D12-42DA-AF7A-50EB63774B83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52600" y="619560"/>
            <a:ext cx="301140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assess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izat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773760" y="1773000"/>
            <a:ext cx="2370240" cy="48495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k risk assessment is made by application of prioritization mod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of key factors to asses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failur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consequenc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pelines are divided to 4 categories by ris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reveals critical pipelines from environmental, production and safety standpoint where leaks are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and high risk pipelines are most priority to replace and protect from cor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data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3132000" y="1698480"/>
            <a:ext cx="3527640" cy="23781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"/>
          <p:cNvPicPr/>
          <p:nvPr/>
        </p:nvPicPr>
        <p:blipFill>
          <a:blip r:embed="rId2"/>
          <a:stretch/>
        </p:blipFill>
        <p:spPr>
          <a:xfrm>
            <a:off x="3462480" y="4479840"/>
            <a:ext cx="2660400" cy="234972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6"/>
          <p:cNvSpPr/>
          <p:nvPr/>
        </p:nvSpPr>
        <p:spPr>
          <a:xfrm>
            <a:off x="3635280" y="4076640"/>
            <a:ext cx="266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пределение парка трубопроводов ТНК-ВР по риск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/ TNK-BP pipelines risk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179280" y="1773360"/>
            <a:ext cx="316224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 и их последствий производится по модели приоритезации трубопрово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ключевых факторы модели приоритезации оцени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 поры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послед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критичности трубопроводы относятся к четырем зонам опас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 – очень высоко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– высок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– сред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 – низ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выделяет наиболее важные трубопроводы с точки зрения экологии, добычи и безопасности на которых возможны ава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бопроводам высокой и очень высокой категории риска отдаётся приоритет для замены, реконструкции и проведения мероприятий по защите от корро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модели проводится на ежегод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488880" y="594360"/>
            <a:ext cx="33847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ка риск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ель приорите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EBF5-8C44-4579-80D9-FCAA35EFE213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31440" y="375120"/>
            <a:ext cx="365292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нстру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3289320" y="4199040"/>
            <a:ext cx="2943360" cy="2396880"/>
          </a:xfrm>
          <a:prstGeom prst="rect">
            <a:avLst/>
          </a:prstGeom>
          <a:ln w="0">
            <a:noFill/>
          </a:ln>
        </p:spPr>
      </p:pic>
      <p:grpSp>
        <p:nvGrpSpPr>
          <p:cNvPr id="536" name="Group 15"/>
          <p:cNvGrpSpPr/>
          <p:nvPr/>
        </p:nvGrpSpPr>
        <p:grpSpPr>
          <a:xfrm>
            <a:off x="3247920" y="1628640"/>
            <a:ext cx="2878200" cy="2438640"/>
            <a:chOff x="3247920" y="1628640"/>
            <a:chExt cx="2878200" cy="2438640"/>
          </a:xfrm>
        </p:grpSpPr>
        <p:pic>
          <p:nvPicPr>
            <p:cNvPr id="537" name="Picture 14" descr=""/>
            <p:cNvPicPr/>
            <p:nvPr/>
          </p:nvPicPr>
          <p:blipFill>
            <a:blip r:embed="rId2"/>
            <a:stretch/>
          </p:blipFill>
          <p:spPr>
            <a:xfrm>
              <a:off x="3247920" y="1628640"/>
              <a:ext cx="287820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 Box 6"/>
            <p:cNvSpPr/>
            <p:nvPr/>
          </p:nvSpPr>
          <p:spPr>
            <a:xfrm>
              <a:off x="3287160" y="2382840"/>
              <a:ext cx="91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До создани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ТНК-ВР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efore TNK-B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7"/>
            <p:cNvSpPr/>
            <p:nvPr/>
          </p:nvSpPr>
          <p:spPr>
            <a:xfrm>
              <a:off x="3688560" y="2717640"/>
              <a:ext cx="0" cy="36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8"/>
          <p:cNvSpPr/>
          <p:nvPr/>
        </p:nvSpPr>
        <p:spPr>
          <a:xfrm>
            <a:off x="179280" y="1670040"/>
            <a:ext cx="32403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4 года ТНК-ВР реконструировала более 3000 км трубопровод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бязательное применение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экономичног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пособа защиты от внутренней и наружной корроз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озможность для проведения диагностики и очист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ходной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трубной прод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троитель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8 г. повсеместно внедряется практика привлечения внешних подрядчиков для проведения независимого технадзора при строительстве и реконстр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тарые трубопроводы при реконструкции выводятся из эксплуатации и демонтируютс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недрение известных ремонтных технологий с применением полиэтиленового лайне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вышение доли ремонтных мероприятий по результатам диагностики для оптимизации затра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492360" y="1484280"/>
            <a:ext cx="251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ъёмы замены трубопроводо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 Pipeline replac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8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9"/>
          <p:cNvSpPr/>
          <p:nvPr/>
        </p:nvSpPr>
        <p:spPr>
          <a:xfrm>
            <a:off x="6227640" y="1700280"/>
            <a:ext cx="2737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2004 TNK-BP had replaced over 30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datory application economical method of corrosion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inspect and c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control of t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quality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quality control contractors are used on all construction sites since 200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d pipelines are to be fully decommissi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ation of advanced repair technologies with polyethylene l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repairs based on inspection results to optimize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47DA-9B04-40BF-9B64-B84BC4262273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8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819600" cy="244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292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гиб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45"/>
          <p:cNvSpPr/>
          <p:nvPr/>
        </p:nvSpPr>
        <p:spPr>
          <a:xfrm>
            <a:off x="3276720" y="28526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50560" y="1471320"/>
            <a:ext cx="2881080" cy="51498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проектов и расширение на всю компанию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ост объёмов ингибиторной защиты в 5 раз с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ейчас в ТНК-ВР под ингибированием находитс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трубопроводов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дельная аварийность на старых ингибируемых трубопроводах в 10 раз ниже чем на трубопроводах без защит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корость коррозии снижается на 90% при подаче ингибито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менение только высокоэффективных реаген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одится входной контроль качества реаген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работан и утвержден СТАНДАРТ по ингибиторной защит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недрена система Оценочных листов для контроля и оценки качества ингибир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ведение всех работ по ингибированию и мониторингу к требованиям СТАНДАР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западной практики комплексного ингибирования – покупка реагента вместе с результат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49"/>
          <p:cNvGrpSpPr/>
          <p:nvPr/>
        </p:nvGrpSpPr>
        <p:grpSpPr>
          <a:xfrm>
            <a:off x="3024360" y="4417920"/>
            <a:ext cx="3400200" cy="2173320"/>
            <a:chOff x="3024360" y="4417920"/>
            <a:chExt cx="3400200" cy="2173320"/>
          </a:xfrm>
        </p:grpSpPr>
        <p:pic>
          <p:nvPicPr>
            <p:cNvPr id="550" name="Picture 50" descr=""/>
            <p:cNvPicPr/>
            <p:nvPr/>
          </p:nvPicPr>
          <p:blipFill>
            <a:blip r:embed="rId2"/>
            <a:stretch/>
          </p:blipFill>
          <p:spPr>
            <a:xfrm>
              <a:off x="3024360" y="4417920"/>
              <a:ext cx="3400200" cy="21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Rectangle 51"/>
            <p:cNvSpPr/>
            <p:nvPr/>
          </p:nvSpPr>
          <p:spPr>
            <a:xfrm>
              <a:off x="3095280" y="4451040"/>
              <a:ext cx="3247920" cy="20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285840" indent="-285840">
                <a:lnSpc>
                  <a:spcPct val="135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Line 52"/>
          <p:cNvSpPr/>
          <p:nvPr/>
        </p:nvSpPr>
        <p:spPr>
          <a:xfrm>
            <a:off x="4334040" y="4368960"/>
            <a:ext cx="1440" cy="12078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3"/>
          <p:cNvSpPr/>
          <p:nvPr/>
        </p:nvSpPr>
        <p:spPr>
          <a:xfrm>
            <a:off x="3225960" y="3975120"/>
            <a:ext cx="2663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Точка закачки ингибитора</a:t>
            </a: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/ Inhibitor injection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54"/>
          <p:cNvSpPr/>
          <p:nvPr/>
        </p:nvSpPr>
        <p:spPr>
          <a:xfrm>
            <a:off x="3581280" y="5888160"/>
            <a:ext cx="436680" cy="26172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ff66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5"/>
          <p:cNvSpPr/>
          <p:nvPr/>
        </p:nvSpPr>
        <p:spPr>
          <a:xfrm>
            <a:off x="5273640" y="5875200"/>
            <a:ext cx="436680" cy="26208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99cc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6"/>
          <p:cNvSpPr/>
          <p:nvPr/>
        </p:nvSpPr>
        <p:spPr>
          <a:xfrm>
            <a:off x="3225960" y="6256440"/>
            <a:ext cx="128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Незащи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Not 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7"/>
          <p:cNvSpPr/>
          <p:nvPr/>
        </p:nvSpPr>
        <p:spPr>
          <a:xfrm>
            <a:off x="4971960" y="6256440"/>
            <a:ext cx="1122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Защ</a:t>
            </a:r>
            <a:r>
              <a:rPr b="1" lang="ru-RU" sz="1000" spc="-1" strike="noStrike">
                <a:solidFill>
                  <a:srgbClr val="99cc00"/>
                </a:solidFill>
                <a:latin typeface="Tahoma"/>
              </a:rPr>
              <a:t>и</a:t>
            </a: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58"/>
          <p:cNvSpPr/>
          <p:nvPr/>
        </p:nvSpPr>
        <p:spPr>
          <a:xfrm>
            <a:off x="4351320" y="5551560"/>
            <a:ext cx="273240" cy="1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9"/>
          <p:cNvSpPr/>
          <p:nvPr/>
        </p:nvSpPr>
        <p:spPr>
          <a:xfrm>
            <a:off x="2986200" y="148428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ингибиторной защиты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hibition sco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60"/>
          <p:cNvSpPr/>
          <p:nvPr/>
        </p:nvSpPr>
        <p:spPr>
          <a:xfrm>
            <a:off x="3940200" y="375120"/>
            <a:ext cx="325260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1"/>
          <p:cNvSpPr/>
          <p:nvPr/>
        </p:nvSpPr>
        <p:spPr>
          <a:xfrm>
            <a:off x="6443640" y="1557360"/>
            <a:ext cx="252108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and corporate implementatio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growth by 5 times sinc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ly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ipeline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rage leak rate on inhibited pipelines 10 times less in comparison with not protected of same ag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speed is reduced by 90% after inhibitor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 of chemicals that per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datory quality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tandard develo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corecard implemented to ensure it`s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ng inhibition and monitoring in standard comp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western approach of complex inhibition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e of chemical with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2"/>
          <p:cNvSpPr/>
          <p:nvPr/>
        </p:nvSpPr>
        <p:spPr>
          <a:xfrm>
            <a:off x="2885400" y="238752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7DB3-5ABC-42BA-9814-5BAC0A4C88F3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10" descr=""/>
          <p:cNvPicPr/>
          <p:nvPr/>
        </p:nvPicPr>
        <p:blipFill>
          <a:blip r:embed="rId1"/>
          <a:stretch/>
        </p:blipFill>
        <p:spPr>
          <a:xfrm>
            <a:off x="2281320" y="1441440"/>
            <a:ext cx="3887640" cy="245736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508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нос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120" y="1628280"/>
            <a:ext cx="28810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более важные трубопроводы подвергаются внутритрубной диагност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испытаний современн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агнитные методы 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2007  в ТНК-ВР разработана методика диагностики нефтепромысловых трубопроводов с увеличенным объёмом контроля по сравнению с требованиями Ростехнадзор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зультаты диагностики являются необходимым условием для обоснования инвестиц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применения нов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пользование результатов диагностики для формирования перспективных планов замены и ремонта трубопроводов и оценки эффективност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"/>
          <p:cNvSpPr/>
          <p:nvPr/>
        </p:nvSpPr>
        <p:spPr>
          <a:xfrm>
            <a:off x="2954160" y="25178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2" descr="IMG_1695"/>
          <p:cNvPicPr/>
          <p:nvPr/>
        </p:nvPicPr>
        <p:blipFill>
          <a:blip r:embed="rId2"/>
          <a:stretch/>
        </p:blipFill>
        <p:spPr>
          <a:xfrm>
            <a:off x="2857680" y="3962520"/>
            <a:ext cx="3095280" cy="27302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3"/>
          <p:cNvSpPr/>
          <p:nvPr/>
        </p:nvSpPr>
        <p:spPr>
          <a:xfrm>
            <a:off x="2763720" y="151272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диагностики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spection cove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5"/>
          <p:cNvSpPr/>
          <p:nvPr/>
        </p:nvSpPr>
        <p:spPr>
          <a:xfrm>
            <a:off x="2542680" y="208296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6"/>
          <p:cNvSpPr/>
          <p:nvPr/>
        </p:nvSpPr>
        <p:spPr>
          <a:xfrm>
            <a:off x="6084720" y="1628640"/>
            <a:ext cx="27370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important pipelines are subjected to smart pig insp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of recent inspection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tic methods an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2007 TNK-BP issued inspection methodology that require additional scope compared to Rostechnadzor require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are mandatory to justify invest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recent inspection technologies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to be used to create long term plans for replacement, repairs and corrosion protection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937A829-34D1-44A0-8D71-807020DD4204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64000" y="691560"/>
            <a:ext cx="149256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ults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3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624720" cy="4608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4"/>
          <p:cNvSpPr/>
          <p:nvPr/>
        </p:nvSpPr>
        <p:spPr>
          <a:xfrm>
            <a:off x="644400" y="683640"/>
            <a:ext cx="2211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зульт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7:06:29Z</dcterms:created>
  <dc:creator>Vladimir Leontenkov</dc:creator>
  <dc:description/>
  <dc:language>en-US</dc:language>
  <cp:lastModifiedBy>ABott</cp:lastModifiedBy>
  <dcterms:modified xsi:type="dcterms:W3CDTF">2009-10-13T05:23:58Z</dcterms:modified>
  <cp:revision>1075</cp:revision>
  <dc:subject/>
  <dc:title>Board of Directors HSE Report</dc:title>
</cp:coreProperties>
</file>