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ACBD-174A-47E1-8B23-F4951FAD589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FBBE-1C58-4A96-9DE6-CC76EBACD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FD46-0D96-4256-9D89-D7E9CF027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9596-34AA-4796-BB50-E6D71706F1A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7D91-E57E-4AC7-BD2F-AD13DD6B8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0E3F-7BDD-4051-B03C-CC46A0D45BC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BA21-27DA-4479-844E-5E134F942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4E0D-E94C-47F8-B7DD-1DA4C87A3EC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3CEE-B781-44F6-AB06-86D646BB1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8B49-3B62-4EE8-9C96-4D5368239BE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B457-02B0-4415-9471-01615DBFD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5050-5BED-4833-9B10-F89D3E36395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A686-12BB-41E0-BC21-E59740320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1E32-162D-4717-B85D-D924819D436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90E0-0E66-49F5-9CAA-F8FC3713D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D1AA-1BD8-4717-A824-C94621FB50D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6400-E004-4D7C-A422-984C01730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954C-3102-48F5-85F4-1798587255F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8C24-3469-45F3-B5A0-14737FFAE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C6A5-6574-4F3F-B5F5-6F6EF10DDB0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F497-A6EB-4BC0-95A5-DDE9F9BCB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24C7-33FC-4258-97EA-169445485F5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6061-C9FE-4E6F-AFBA-9D41D0F15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7A8F-9BBE-4EBE-9EAE-CF60496C123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7A65-09B3-4C9B-9803-6F6C4B307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5FEC-555B-4B50-843E-89377E8FBA0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7E6E-CA10-4F21-9AD8-9529D1D35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E010-1A4B-42BB-BA11-718E401F42A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4C485090-18D7-40A7-B907-CC513BD2B47C}"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1C6471D7-0F7B-4D08-867D-208771DD8FA2}" type="datetime1">
              <a:rPr lang="en-US"/>
              <a:t>07/30/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B3AD24E7-E00C-4316-BA5F-5DC4408663FE}"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B2F85712-37F5-410B-AF9D-CE4C76F0E4B9}"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2DB12984-445E-4C98-95BB-C956F0142DED}"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1A7C40B4-0E85-4236-928C-8390EFDFB065}" type="datetime1">
              <a:rPr lang="en-US"/>
              <a:t>07/30/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B5BB6E97-BF8A-46E1-942C-D75305D6453E}" type="datetime1">
              <a:rPr lang="en-US"/>
              <a:t>07/30/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04942E79-831C-457F-9CAD-61478873C9F0}" type="datetime1">
              <a:rPr lang="en-US"/>
              <a:t>07/30/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A0C1B64B-89CF-429F-B9F9-7E4A700F5D37}" type="datetime1">
              <a:rPr lang="en-US"/>
              <a:t>07/30/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9FE423B9-59E0-489A-8D0B-DE34556CF4B2}"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E191A3FA-78B3-4E84-A391-D5743B9F3DE2}" type="datetime1">
              <a:rPr lang="en-US"/>
              <a:t>07/30/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460DB377-2617-4790-80D3-3339BAF5956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06A0FAFA-4691-4303-AC83-737DA45DFD6C}" type="datetime1">
              <a:rPr lang="en-US"/>
              <a:t>07/30/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EFAAB6BC-47F5-4461-A7EE-74D956F534C1}"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CF4B7345-9CAA-458B-86FB-C5DAA7580FDF}" type="datetime1">
              <a:rPr lang="en-US"/>
              <a:t>07/30/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7FFF1C58-5281-4960-9EE1-53A8CC30D28D}" type="datetime1">
              <a:rPr lang="en-US"/>
              <a:t>07/30/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81648B44-7FEF-4B66-8983-36201F474E49}" type="datetime1">
              <a:rPr lang="en-US"/>
              <a:t>07/30/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902F9F0C-405C-4889-BCED-379FBD519C85}" type="datetime1">
              <a:rPr lang="en-US"/>
              <a:t>07/30/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84215B46-35C1-4967-869E-E6D50563E63A}"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AC9A6C44-EBDD-4888-A7A9-BFDD8E7388E7}"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4A3A3D75-0285-487D-9B10-7A95E8688B12}" type="datetime1">
              <a:rPr lang="en-US"/>
              <a:t>07/30/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73EE7021-18BF-41C1-B397-FCFB9F996553}"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6BDD3239-A114-457E-9685-69FDA3D5F527}"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07F40C2D-5356-4D8B-BBB2-C548E4EF6114}"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3C31D8D6-FB3A-4DBC-BCA0-0935859AED15}"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