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D2CB-FDCB-4DFB-A442-75EBD9B32C2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C607-9EF6-40C0-A2BE-540D1DB7D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2C6A-EABA-4341-A1CA-8DC940334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DFB8-7041-457E-8EB6-D7A310ABAF9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04D9-1F97-4BFB-886F-EBF6B2C7D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4ECD-1FCE-46E7-867C-4672EEBB2CC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A9AE-A684-4FB0-9225-729B52F5F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50F2-62C5-484C-B8FD-C4A9A6B38EA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9A06-AC77-403E-964E-6C1FFB8C3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5C0F-24D3-4C13-9125-B78B2D96F89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053B-2EA3-43B8-983B-67E92011E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977E-1893-48C2-9E94-DA5748C07C3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1842-7267-4924-A9FE-30ADFC973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4724-2C30-404B-9113-A5780AB6D99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F37B-39AF-4A59-9C09-B13A79FE4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6D1F-8EF3-4C4A-8C27-B9C1E55A70E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DA21-20AE-4110-851B-D9438558E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6A3A-BD11-4C24-91C1-7D8E24707A2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8478-6D9F-4391-AB43-190492729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4E98-F930-4E9F-9153-ACEB142EB16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F91F-89E6-47B5-83F9-E643061FF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6AFC-966F-46DE-A4D9-E47EDBA934A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B542-603C-4FC5-BF31-450E404FA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A9B8-B3FD-4C29-A06A-25FB96D06AD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EB82-B437-4C87-B702-44D4E5990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393A-B57C-4F08-A313-2773436E2CD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825F-1F77-4083-A744-0E4977E48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71D0-BDC5-4051-B50D-026AAEA5E2D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6D7CECD8-560F-49B3-99D6-693705699784}"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1C77ADA3-A6C1-4E3A-9487-2F0B1CDE01AB}" type="datetime1">
              <a:rPr lang="en-US"/>
              <a:t>07/31/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DF3B330-C9F1-46E5-99DE-672C87085D8B}"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F26FAB47-DFB3-4D2F-83C2-6901D6A5934F}"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74433DD-95F7-4B7D-A23E-3F0493871051}"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11B26200-A491-4DD1-9BF3-FDE49C2DA598}" type="datetime1">
              <a:rPr lang="en-US"/>
              <a:t>07/31/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68842853-F625-4150-80AA-B3C6E65B5DC4}" type="datetime1">
              <a:rPr lang="en-US"/>
              <a:t>07/31/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FAB4BEB4-D980-496F-BAEC-0093BAE585D5}" type="datetime1">
              <a:rPr lang="en-US"/>
              <a:t>07/31/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EE8DBC54-B340-4FDF-A19A-E42D06501B16}" type="datetime1">
              <a:rPr lang="en-US"/>
              <a:t>07/31/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F3F56AB-5C33-4615-A850-A0CD8116AC22}"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4088189E-11AA-4FFE-85DF-75FFA31A33BD}" type="datetime1">
              <a:rPr lang="en-US"/>
              <a:t>07/31/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6EA0DE4A-9C1C-4A02-ABDD-BA250764829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997F9AA4-A68E-4C3D-8F79-8D0BBB16E3E4}" type="datetime1">
              <a:rPr lang="en-US"/>
              <a:t>07/31/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EFEED02A-B5C5-446F-A7E1-13AFA0AC8EC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A9B6F70-F4BF-4CF0-A7E6-3CF246AE5C6E}" type="datetime1">
              <a:rPr lang="en-US"/>
              <a:t>07/31/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E13DBEC9-37AD-4576-A427-B132F4CBEA13}" type="datetime1">
              <a:rPr lang="en-US"/>
              <a:t>07/31/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8A961A73-3BE3-446A-837C-C72BE96F54B4}" type="datetime1">
              <a:rPr lang="en-US"/>
              <a:t>07/31/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B24D0A04-171C-4D54-9C70-525EFD785308}" type="datetime1">
              <a:rPr lang="en-US"/>
              <a:t>07/31/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BC325406-8682-4A32-8984-610DFC2D5050}"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A898C5B8-8774-46E8-8789-FA32EB8576C6}"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60AC3A18-0443-4647-9CB1-105185950D82}" type="datetime1">
              <a:rPr lang="en-US"/>
              <a:t>07/31/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B743B3E2-2EB1-4456-8BA7-699F6DADBBF8}"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2EB98E61-3767-4C99-AD5C-D12F1DE51148}"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87441ABF-987F-4E70-B2BC-E4557593E2B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38BF9185-6768-4734-933B-05D391695407}"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