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9B25-95B0-412C-9977-E13BE915546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795B-0FC9-4917-95E6-CA7E2C998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A648-59CA-460B-8F91-F995C12D4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478F-8BD1-4CCB-871C-9B801B96B76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6C30-A7C6-4CF1-9079-550000A92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7B18-4FD5-46EF-AF94-A4A795F9F38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55F9-37F1-4482-8A21-876AE7D95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4AF9-7A05-4022-A819-56B1C3B4249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84B7-1721-46D6-8426-CB0BBB177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C099-25CB-426F-9392-A5D8D5FA781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1D194-6342-4DD5-A5AC-D10744451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5ABB-D115-4D8A-95DC-4A5FF32A5ED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43D9-9A2F-4C76-B9F6-B3DB762D3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61F3-BD83-4816-8B21-DEE95F32D41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D9F4-1939-4D49-B573-BD6CC6E38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CD75-313E-48AB-ABE4-221A0A02732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3237-0E03-4D4E-9D53-21B44C7C7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C7FE-13C2-467F-A066-3EF92700720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6A50-827B-4A83-9857-A375F0D46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1402-C43B-457E-B361-8FEAADB6F50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6E99-C6CE-4955-86EB-435E5D2EA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ED8A-AFB3-4C65-A6FB-6AFB3F281F0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76BB-35F6-452F-B675-6C1B59783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9159-ED4B-463C-98A4-52E53E74100C}"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12DB-77FE-40CA-B70A-4BE9A4AC3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8C99-2738-43C9-A0D0-7CE7B3BD512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7215-CBDA-49D0-A17C-A7744996B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D7FB-1556-4212-8F35-6986E766576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5AD903DD-B668-4DE2-9A55-3E277D7C3F11}"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71AEB181-CDB8-4142-9356-1E595C2008BE}" type="datetime1">
              <a:rPr lang="en-US"/>
              <a:t>07/29/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F55A19AE-1C7C-4E31-B269-173280AA32C3}"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E76B3E08-2722-436A-9FAB-0443C8347855}"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4FC3163B-FBAB-4263-84DB-2F72C97FE79D}"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862FFDE1-9EBF-4F0A-9BDF-2A7626447F76}" type="datetime1">
              <a:rPr lang="en-US"/>
              <a:t>07/29/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AA110068-429A-4DE5-AF76-EBE1EEEB8AF2}" type="datetime1">
              <a:rPr lang="en-US"/>
              <a:t>07/29/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47AE6D3D-C756-4F23-85D8-EDC41D32681F}" type="datetime1">
              <a:rPr lang="en-US"/>
              <a:t>07/29/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183CF0CB-35F2-4A12-AEC4-E52ED2AB8B51}" type="datetime1">
              <a:rPr lang="en-US"/>
              <a:t>07/29/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5473A79B-809D-4C97-811A-73B97C664B54}"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BC4E93C7-FCCB-4DA7-93B2-C18D3CEA12FA}" type="datetime1">
              <a:rPr lang="en-US"/>
              <a:t>07/29/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EF189C60-03CF-4418-9E5D-B62002240531}"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D57E4CDA-0B41-4459-9072-D7F69315AEE7}" type="datetime1">
              <a:rPr lang="en-US"/>
              <a:t>07/29/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165D192F-54ED-4C86-AEC2-F8CC6CA6EFF3}"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21FC6DC9-ED3E-47CB-A480-CBF26A36C8C5}" type="datetime1">
              <a:rPr lang="en-US"/>
              <a:t>07/29/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9D3D8A73-A24C-4BF9-B31A-00E78139D466}" type="datetime1">
              <a:rPr lang="en-US"/>
              <a:t>07/29/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2C016B89-FD3B-4FC5-8795-D6DE2CD27B48}" type="datetime1">
              <a:rPr lang="en-US"/>
              <a:t>07/29/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3B2C4AEE-38FA-43DC-80C1-B8DE1A855500}" type="datetime1">
              <a:rPr lang="en-US"/>
              <a:t>07/29/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49F06A3C-684A-409E-8D81-70103F2CB058}"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3695FA71-533B-41E2-B4A4-C97DBE161CAE}"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26A24F5A-6C82-4B48-A19C-937922F4291F}" type="datetime1">
              <a:rPr lang="en-US"/>
              <a:t>07/29/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D295427A-0898-43A6-AC44-BAE4DDADB46A}"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C72E5ECC-0736-45DE-8ECF-9EDC7B5696FA}"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49D85E04-4FE4-4433-94AF-38269A722D10}"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60C018A6-997D-4744-B397-C49E8B79C700}"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