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97EC-2E6A-4E8E-8501-753B48F1F4D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0876-DFB9-4B46-8439-4FB601FA8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7016-4211-4ACC-9D9B-FAEBEB052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750C-037A-48F4-A96D-166B5DE1832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22E8-C20B-4C8D-9DBB-382EBF9A4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AE8A-75DF-42DF-9380-99C890257A1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B17E-8146-442A-9075-2D45C613C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B23D-3AC8-4CAE-8750-7DF25C8207B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A2A7-0B5B-4C6E-A1B8-2CA8CFE5F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1608-3B31-4827-AC55-F0069FE8E54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247B-8767-4C97-A2BD-BE7B36E62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C582-4CDD-4C63-8B3C-57DBB152BE5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5354-4440-42AD-ABE9-A7DFDCC0D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5EC5-6A34-4A9F-896F-6F4D5F79075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1615-3CD7-4EBE-BAED-FBA9F0D2D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E8B8-F3E3-4D21-9523-03E1B77C3CA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C7B6-6C4E-4511-B0AE-9CDA6E6C4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B2DE-CB1A-4CBD-B462-B3C5E7C7C39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BD64-EC25-4401-87DA-D30A3936D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E443-6206-4D6F-8872-C5584EF22B4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1AAE-E7DC-499C-B5A0-D61616E35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CD0D-6CA5-4149-A806-264CDFC5F41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5917-0391-431D-9B4C-25E73D44C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3FDD-54DF-4085-B599-39D8C1DFCD1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8989-017D-421E-B568-F1910B3DA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8252-F41B-47FD-ACC4-8D0677B2FBD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4A5D-10CC-4F7A-8BFF-3402A4020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41AE-ABF1-448D-9718-6414F8C4389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D4A1158B-0FB3-48C5-B9DD-1D7F730F4F6F}"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3345798C-E774-446C-A073-6E882A6DEBE3}" type="datetime1">
              <a:rPr lang="en-US"/>
              <a:t>07/30/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1A32C44D-6FFF-4CE4-A1F8-B64C3B644C98}"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A2DE9DE8-8CD1-4130-A793-8B5969FBD11F}"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9AB0F676-0788-4BDD-95C3-19DB74ED1CDC}"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E5E3F4C2-CCD6-4888-83F7-EBC9E08B177A}" type="datetime1">
              <a:rPr lang="en-US"/>
              <a:t>07/30/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971E2EB7-83ED-456A-B176-0A47D1A68C71}" type="datetime1">
              <a:rPr lang="en-US"/>
              <a:t>07/30/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91200245-E198-417D-9482-7F515E4DF8D3}" type="datetime1">
              <a:rPr lang="en-US"/>
              <a:t>07/3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9FE4504E-94E0-419A-A358-61CD597E03CE}" type="datetime1">
              <a:rPr lang="en-US"/>
              <a:t>07/30/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9DC2C60A-73BA-49B6-8342-10679BE0C35B}"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8C1B1530-9A27-4DDD-ADDC-530ADD7BE489}" type="datetime1">
              <a:rPr lang="en-US"/>
              <a:t>07/30/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9BE2611F-8706-4D8D-832C-76A724DBB447}"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378D6EC1-F845-496E-9F91-01C4276C73DF}" type="datetime1">
              <a:rPr lang="en-US"/>
              <a:t>07/30/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A483F056-6FA3-4898-BAC7-DCE134C7CE5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995A612F-E3E2-453B-A709-BE62BC262680}" type="datetime1">
              <a:rPr lang="en-US"/>
              <a:t>07/30/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0CE3A6DF-FC99-4974-914D-6C29BD44E073}" type="datetime1">
              <a:rPr lang="en-US"/>
              <a:t>07/30/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DAF55C62-BA2B-4A4C-BC2F-1CDD00478622}" type="datetime1">
              <a:rPr lang="en-US"/>
              <a:t>07/30/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02300006-72C4-4B06-8761-B98AA0C018BC}" type="datetime1">
              <a:rPr lang="en-US"/>
              <a:t>07/30/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5590B55F-826C-4728-B845-9CD82215B517}"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A666CF50-AD39-41D3-AB6B-00AD7F201713}"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EE515AB4-303C-46D3-AB55-D46F5582A388}" type="datetime1">
              <a:rPr lang="en-US"/>
              <a:t>07/30/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4218CA43-58BA-46B9-AF5D-D9391D5BBD69}"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251F1D45-677B-4355-A628-BD562BD03E99}"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256C6EAB-9FE6-4245-B64E-52BBD82BDC6F}"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9A7337EB-3B9A-462F-84DA-3876EA539243}"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