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14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15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F438-C126-457D-8A17-7162B5E0CB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164B-270B-4AF2-A360-0D54131095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56C9-5285-4F7C-B34D-56280BAD24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9631-A426-43CC-99F3-D2ED2301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40C3-21E6-4ED4-B05E-2ABF7A4A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C54-177C-4DA7-BF6B-418ACA9C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CCA-995A-4412-B750-E93115BF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3151-5817-49C6-A93B-A4F1ECB7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1CB0-EEF5-438C-A189-AF37268D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1302-5866-42F3-A133-A3A1372D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341C-4BCB-4594-A021-C10EB046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5D56-4217-42EC-BF56-D79A2E3B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25E7-1A8C-4BB6-BAF5-35D1D867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467D-C208-465C-A5C5-4835D038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108-3B2E-43E4-BD77-E7106774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9D70-F889-42FA-99F7-C055C4D0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2924-5877-412F-9010-F3EBFFB4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CF3E-9040-49E1-BC2F-1FE9D7F6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8301-4EE0-4EED-BBCF-A5AB601E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ABDE-8958-4986-ACDE-C54B20DB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C40C2-5E17-4DD7-8F07-33C53467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3B84A-D3E2-4799-9682-179EDE81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274CE-842F-4B4D-A205-0C7F4C94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7592E-12F4-4165-A518-EE20B3B2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6569A-D758-42B6-BA49-5C94D1E3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1091-3F6C-4681-ABC6-6F744ADC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7A249-A067-42D1-9F34-FA51801F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0377D-C521-4AC7-B08A-2E282EB5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3351C-028A-4F28-8CA6-87F34C2F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C1E14-208E-4073-A6BC-5410821E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364BA-F494-4028-95AF-262C9538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12E04-AC8A-437E-A9F3-9E296D21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D4212-EA30-405C-B794-A1331788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9B122-748B-4DE6-80A9-E8AD43B7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E1605-3BCF-4B48-8504-862FFBAF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44353-F3AE-4741-970C-BFF72D0A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F835-E0AE-4AA8-9B27-090174EB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BA3C2-1F5A-4976-B428-B7D26D9F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DBAD8-E5B5-4009-A721-9FC035DE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1C0AD-ACDE-4A92-AC02-6768C337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49458-2366-49A1-825D-38C2E21F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EB4FB-BDB3-48FC-8789-7AE78BAF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BF41E-E6A9-4873-89BB-ED241417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87164-6722-4C9C-8A4C-B56ABFF2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120CD-66B8-4037-825D-E447C5E6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59F6B-FD2B-45FD-B133-683EBFAB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3A5-8DB4-41EB-9D2D-D6DA3646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C4F-874E-4551-8090-091CA879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2B6-E8E8-4B8F-8AF2-2ACFF523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8419-D9A7-4CB9-B019-13D6838E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618-0125-4EB7-AAAF-7B3F47CC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8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4343040" y="380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8559360" y="355320"/>
            <a:ext cx="381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4D30-A3E6-4BF2-9A8D-D8392CDBB870}" type="slidenum"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276360" y="-3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185400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679B-91EF-4674-B168-E41E39747A19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136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256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7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8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9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7986-B921-4B9F-884E-DAABE6696074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381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0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1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2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6E26-1738-47E6-855D-92983979DC1F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1827360" y="0"/>
            <a:ext cx="125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C359-9081-426E-BC9D-A453722B1D15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42920" y="1679400"/>
            <a:ext cx="3994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stream pipelines integrity manage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NK-BP appro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787640" y="3573360"/>
            <a:ext cx="350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conferenc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October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33240" y="3603600"/>
            <a:ext cx="350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лад для конференци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тября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33240" y="1144440"/>
            <a:ext cx="37227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авление целостностью промысловых  трубопроводов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ход ТНК-В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A377D8D-FFB5-4EC5-BF81-FBC1E20FE316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691560"/>
            <a:ext cx="647208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0920" y="4960800"/>
            <a:ext cx="3600360" cy="18972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НК-ВР была организована в 2003 г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ледство объёдинённая компания получила около 28000 км трубопров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ельная часть трубопроводов имела срок службы более 15 лет и не самое лучшее техническое состоя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е покрытие трубопроводного парка средствам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лся значительный объём ресурсов для обеспечения непрерывной и безопасной эксплуатации трубопров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тнк-вр карта рус"/>
          <p:cNvPicPr/>
          <p:nvPr/>
        </p:nvPicPr>
        <p:blipFill>
          <a:blip r:embed="rId1"/>
          <a:stretch/>
        </p:blipFill>
        <p:spPr>
          <a:xfrm>
            <a:off x="971640" y="1413000"/>
            <a:ext cx="6534000" cy="34718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500720" y="4960800"/>
            <a:ext cx="3673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NK-BP was established i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company had received about 28000 km of 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part of pipelines had more than 15 years of operation and not best ever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protection was insuffic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resources were required to ensure safe and continuous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E380736-0F96-4E6A-96EA-FFB73580EF63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29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AAE9676F-7622-4B9E-A181-012BC716AC2C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22:17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THK-BP presentatio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C0BA143-22EF-40DB-A9ED-AF22967C4725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19560"/>
            <a:ext cx="710712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787640" y="1509840"/>
            <a:ext cx="4136760" cy="53481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2004 integrity management strategy was developed with a goal to reduce pipeline l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ocus area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leak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leaking pip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ing and implementation of advanced technologies to increase technical condition of pipelines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ibi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insp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osion prot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repair technologie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essment tool was developed to identify critical pipelines that require additional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oard of Directors set a goal to reduce leaks by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ior management obtain regular pipeline integrity reporting with leak caus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idiaries were provided with required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63600" y="1509840"/>
            <a:ext cx="43527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4 году была разработана стратегия управления целостностью. Основная цель которой - снижение аварийности всех трубопровод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 направления стратегии управления целостность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на аварийных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ация и внедрение новых технологий для повышения уровня технического состояния существующих трубопровод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нгибирование, новые методы диагностики, электрохимическая защита, современные технологии ремон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л разработан инструмент приоритезации трубопроводов, с помощью которого выделяются наиболее важные трубопроводы, определяются приоритеты на реконструкцию, причем более высокий приоритет получают трубопроводы, пролегающие через экологически чувствительные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Директоров ТНК-ВР установил обязательство к 2009 году снизить на 50% исторически сложившуюся в компаниях-предшественницах аварийность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шее руководство компании получает регулярную отчётность об аварийности трубопроводов с анализом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едприятиях ТНК-ВР было профинансировано применение новых технологий, включая ингибирование коррозии и диагно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4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13F12FC-C303-4DD8-9F60-14C93DD0971E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29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71B016DE-8D7A-48CF-B8D4-FD909671C8A5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22:17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5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Название презентации ТНК-В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CF4E5BD-7ED2-4D7D-9DC2-5BC3E9928A8E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2600" y="619560"/>
            <a:ext cx="301140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at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73760" y="1773000"/>
            <a:ext cx="2370240" cy="48495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 risk assessment is made by application of prioritization mod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key factors to ass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failu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consequen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s are divided to 4 categories by ri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eveals critical pipelines from environmental, production and safety standpoint where leak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and high risk pipelines are most priority to replace and protect from cor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data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3132000" y="1698480"/>
            <a:ext cx="3527640" cy="2378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3462480" y="4479840"/>
            <a:ext cx="2660400" cy="2349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3635280" y="407664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пределение парка трубопроводов ТНК-ВР по рис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TNK-BP pipelines risk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1773360"/>
            <a:ext cx="316224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 и их последствий производится по модели приоритезации трубопрово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ключевых факторы модели приоритезации оцен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 поры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посл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критичности трубопроводы относятся к четырем зонам опас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 – очень высок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ысо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 – ни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ыделяет наиболее важные трубопроводы с точки зрения экологии, добычи и безопасности на которых возможны ав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бопроводам высокой и очень высокой категории риска отдаётся приоритет для замены, реконструкции и проведения мероприятий по защите от корро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модели проводится на ежегод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488880" y="59436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рис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 приорите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1BF0-68B8-46B7-A4F5-C5037F09417B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1440" y="375120"/>
            <a:ext cx="365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3289320" y="4199040"/>
            <a:ext cx="29433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3247920" y="1628640"/>
            <a:ext cx="2878200" cy="2438640"/>
            <a:chOff x="3247920" y="1628640"/>
            <a:chExt cx="2878200" cy="2438640"/>
          </a:xfrm>
        </p:grpSpPr>
        <p:pic>
          <p:nvPicPr>
            <p:cNvPr id="537" name="Picture 14" descr=""/>
            <p:cNvPicPr/>
            <p:nvPr/>
          </p:nvPicPr>
          <p:blipFill>
            <a:blip r:embed="rId2"/>
            <a:stretch/>
          </p:blipFill>
          <p:spPr>
            <a:xfrm>
              <a:off x="3247920" y="1628640"/>
              <a:ext cx="28782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6"/>
            <p:cNvSpPr/>
            <p:nvPr/>
          </p:nvSpPr>
          <p:spPr>
            <a:xfrm>
              <a:off x="3287160" y="2382840"/>
              <a:ext cx="91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До создан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ТНК-ВР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fore TNK-B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"/>
            <p:cNvSpPr/>
            <p:nvPr/>
          </p:nvSpPr>
          <p:spPr>
            <a:xfrm>
              <a:off x="3688560" y="2717640"/>
              <a:ext cx="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8"/>
          <p:cNvSpPr/>
          <p:nvPr/>
        </p:nvSpPr>
        <p:spPr>
          <a:xfrm>
            <a:off x="179280" y="1670040"/>
            <a:ext cx="324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4 года ТНК-ВР реконструировала более 3000 км трубопров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язательное примен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номичног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пособа защиты от внутренней и наружной корроз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зможность для проведения диагностики и очист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ходной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трубной прод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трои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8 г. повсеместно внедряется практика привлечения внешних подрядчиков для проведения независимого технадзора при строительстве и реконстр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арые трубопроводы при реконструкции выводятся из эксплуатации и демонтирую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известных ремонтных технологий с применением полиэтиленового лайне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вышение доли ремонтных мероприятий по результатам диагностики для оптимизации затр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92360" y="1484280"/>
            <a:ext cx="25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ъёмы замены трубопровод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 Pipeline repla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9"/>
          <p:cNvSpPr/>
          <p:nvPr/>
        </p:nvSpPr>
        <p:spPr>
          <a:xfrm>
            <a:off x="6227640" y="1700280"/>
            <a:ext cx="273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2004 TNK-BP had replaced over 30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application economical method of corrosion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inspect and 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control of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quality control contractors are used on all construction sites since 20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pipelines are to be fully decommiss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advanced repair technologies with polyethylene l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repairs based on inspection results to optimize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4AEA-2357-4387-AF68-6BEA37066801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8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9600" cy="244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292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гиб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45"/>
          <p:cNvSpPr/>
          <p:nvPr/>
        </p:nvSpPr>
        <p:spPr>
          <a:xfrm>
            <a:off x="3276720" y="28526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560" y="1471320"/>
            <a:ext cx="2881080" cy="51498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проектов и расширение на всю компанию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ст объёмов ингибиторной защиты в 5 раз с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йчас в ТНК-ВР под ингибированием находи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трубопроводов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ельная аварийность на старых ингибируемых трубопроводах в 10 раз ниже чем на трубопроводах без защи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рость коррозии снижается на 90% при подаче ингибито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енение только высокоэффективных реаг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ся входной контроль качества реаг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ан и утвержден СТАНДАРТ по ингибиторной защ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дрена система Оценочных листов для контроля и оценки качества ингиб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ние всех работ по ингибированию и мониторингу к требованиям СТАНДАР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западной практики комплексного ингибирования – покупка реагента вместе с результат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3024360" y="4417920"/>
            <a:ext cx="3400200" cy="2173320"/>
            <a:chOff x="3024360" y="4417920"/>
            <a:chExt cx="3400200" cy="2173320"/>
          </a:xfrm>
        </p:grpSpPr>
        <p:pic>
          <p:nvPicPr>
            <p:cNvPr id="550" name="Picture 50" descr=""/>
            <p:cNvPicPr/>
            <p:nvPr/>
          </p:nvPicPr>
          <p:blipFill>
            <a:blip r:embed="rId2"/>
            <a:stretch/>
          </p:blipFill>
          <p:spPr>
            <a:xfrm>
              <a:off x="3024360" y="4417920"/>
              <a:ext cx="340020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51"/>
            <p:cNvSpPr/>
            <p:nvPr/>
          </p:nvSpPr>
          <p:spPr>
            <a:xfrm>
              <a:off x="3095280" y="4451040"/>
              <a:ext cx="3247920" cy="20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135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52"/>
          <p:cNvSpPr/>
          <p:nvPr/>
        </p:nvSpPr>
        <p:spPr>
          <a:xfrm>
            <a:off x="4334040" y="4368960"/>
            <a:ext cx="1440" cy="1207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3225960" y="3975120"/>
            <a:ext cx="2663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Точка закачки ингибитора</a:t>
            </a: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/ Inhibitor injection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4"/>
          <p:cNvSpPr/>
          <p:nvPr/>
        </p:nvSpPr>
        <p:spPr>
          <a:xfrm>
            <a:off x="3581280" y="5888160"/>
            <a:ext cx="436680" cy="26172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ff66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5"/>
          <p:cNvSpPr/>
          <p:nvPr/>
        </p:nvSpPr>
        <p:spPr>
          <a:xfrm>
            <a:off x="5273640" y="5875200"/>
            <a:ext cx="436680" cy="26208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99cc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6"/>
          <p:cNvSpPr/>
          <p:nvPr/>
        </p:nvSpPr>
        <p:spPr>
          <a:xfrm>
            <a:off x="3225960" y="625644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Незащи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Not 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7"/>
          <p:cNvSpPr/>
          <p:nvPr/>
        </p:nvSpPr>
        <p:spPr>
          <a:xfrm>
            <a:off x="4971960" y="6256440"/>
            <a:ext cx="112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Защ</a:t>
            </a:r>
            <a:r>
              <a:rPr b="1" lang="ru-RU" sz="1000" spc="-1" strike="noStrike">
                <a:solidFill>
                  <a:srgbClr val="99cc00"/>
                </a:solidFill>
                <a:latin typeface="Tahoma"/>
              </a:rPr>
              <a:t>и</a:t>
            </a: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4351320" y="5551560"/>
            <a:ext cx="27324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2986200" y="148428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ингибиторной защиты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hibition sco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0"/>
          <p:cNvSpPr/>
          <p:nvPr/>
        </p:nvSpPr>
        <p:spPr>
          <a:xfrm>
            <a:off x="3940200" y="375120"/>
            <a:ext cx="32526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1"/>
          <p:cNvSpPr/>
          <p:nvPr/>
        </p:nvSpPr>
        <p:spPr>
          <a:xfrm>
            <a:off x="6443640" y="1557360"/>
            <a:ext cx="2521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and corporate implementatio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growth by 5 times sin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ipeline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age leak rate on inhibited pipelines 10 times less in comparison with not protected of same a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speed is reduced by 90% after inhibitor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 of chemicals that per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datory qualit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tandard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corecard implemented to ensure it`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ng inhibition and monitoring in standar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western approach of complex inhibition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f chemical with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2"/>
          <p:cNvSpPr/>
          <p:nvPr/>
        </p:nvSpPr>
        <p:spPr>
          <a:xfrm>
            <a:off x="2885400" y="238752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091C-E908-44B6-AEEF-81E78C69525B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1"/>
          <a:stretch/>
        </p:blipFill>
        <p:spPr>
          <a:xfrm>
            <a:off x="2281320" y="1441440"/>
            <a:ext cx="3887640" cy="2457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508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120" y="1628280"/>
            <a:ext cx="2881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ее важные трубопроводы подвергаются внутритрубной диагност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испытаний современн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гнитные методы 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2007  в ТНК-ВР разработана методика диагностики нефтепромысловых трубопроводов с увеличенным объёмом контроля по сравнению с требованиями Ростехнадзо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ультаты диагностики являются необходимым условием для обоснования инвестиц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применения нов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результатов диагностики для формирования перспективных планов замены и ремонта трубопроводов и оценки эффективност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2954160" y="25178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IMG_1695"/>
          <p:cNvPicPr/>
          <p:nvPr/>
        </p:nvPicPr>
        <p:blipFill>
          <a:blip r:embed="rId2"/>
          <a:stretch/>
        </p:blipFill>
        <p:spPr>
          <a:xfrm>
            <a:off x="2857680" y="3962520"/>
            <a:ext cx="3095280" cy="27302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3"/>
          <p:cNvSpPr/>
          <p:nvPr/>
        </p:nvSpPr>
        <p:spPr>
          <a:xfrm>
            <a:off x="2763720" y="151272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диагностики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spection cove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2542680" y="208296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084720" y="1628640"/>
            <a:ext cx="2737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important pipelines are subjected to smart pi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of recent inspection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tic methods an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2007 TNK-BP issued inspection methodology that require additional scope compared to Rostechnadzor require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are mandatory to justify invest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recent inspection technologies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to be used to create long term plans for replacement, repairs and corrosion protec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ABFC9F3-AD6F-4F02-8B45-059AC6B91D06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64000" y="691560"/>
            <a:ext cx="149256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644400" y="683640"/>
            <a:ext cx="2211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6:29Z</dcterms:created>
  <dc:creator>Vladimir Leontenkov</dc:creator>
  <dc:description/>
  <dc:language>en-US</dc:language>
  <cp:lastModifiedBy>ABott</cp:lastModifiedBy>
  <dcterms:modified xsi:type="dcterms:W3CDTF">2009-10-13T05:23:58Z</dcterms:modified>
  <cp:revision>1075</cp:revision>
  <dc:subject/>
  <dc:title>Board of Directors HSE Report</dc:title>
</cp:coreProperties>
</file>